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AD3-C125-4F09-B548-E240EF9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3D2-39E5-42CF-A320-2499B4F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1B6-94FF-46F2-A041-5B42DFCF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394-048C-4056-A2F8-E791E394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867-3DC9-45C0-8F7B-580F008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3E0-F174-4F4C-8C6D-B1892F4C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223-2120-4FAE-B7D5-066E9A51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DE1-943E-4AA2-A158-788C12F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781-4618-44EE-B30E-54FE8D94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4E6-4660-4624-8170-9AFDE0A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C96-85F7-4CBC-B2B1-EA4762AC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3B6-9D30-499A-8E44-93E2189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6A33-8837-46F2-A43C-6F6452D60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360" y="3141360"/>
            <a:ext cx="5113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едложение: подлежащее и сказуе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Главные и второстепен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Характеристика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интаксический разбор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32000" y="189000"/>
            <a:ext cx="66261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распространенны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ространенны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лож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198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р..нскрипция, н..когда, орфогра..а, пр..ставка, су..фикс, оконч..ние, в..л..сипед, г..мнаст, м..ршрут, к..сьба, м..л..тьба, фу..бол, хок..ей, чудес..ный, прелес..ный, б..скетбол, брош..ра, бар..ер, из..под, синт..ксис, пун..туация, сл..восоч..тание, пр..д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619280" y="260280"/>
            <a:ext cx="648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ловарная работа.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Бесед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частями речи выражены подлежащие в нашем тексте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частями речи могут быть выражены ска­зуемые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ли в предложении есть оба главных члена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простых предложений в сложном, если мы насчитаем три грамматические осно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ем нужно видеть грамматическую основу пред­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239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87280" y="2781360"/>
            <a:ext cx="7499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1     2     3    4     5    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+     -    +    -    -    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684360" y="0"/>
            <a:ext cx="828360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наковый диктан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Тире между подлежащим и сказуемым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WordArt 5"/>
          <p:cNvSpPr txBox="1"/>
          <p:nvPr/>
        </p:nvSpPr>
        <p:spPr>
          <a:xfrm rot="5400000">
            <a:off x="-1260720" y="400500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ю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rcRect l="0" t="0" r="9419" b="0"/>
          <a:stretch/>
        </p:blipFill>
        <p:spPr>
          <a:xfrm>
            <a:off x="395280" y="260280"/>
            <a:ext cx="2124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ВЕСТВ., НЕВОСКЛ., ПРОСТ., ОДНОСОСТАВН., НЕРАСПРОСТР., НЕОСЛОЖ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ВЕСТВ., НЕВОСКЛ., ПРОСТ., РАСПР., ОДНОСОСТАВН., НЕОСЛОЖ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одберите ПРЕДЛОЖЕНИЯ,  соответствующие сх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ДАЙТЕ ХАРАКТЕРИСТИКУ ПРЕДЛОЖ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н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улице вечер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ждливое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755640" y="-171360"/>
            <a:ext cx="7829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НТАКСИЧЕСКИЙ РАЗБОР ПРЕДЛОЖЕ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3203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a50021"/>
                </a:solidFill>
                <a:uFillTx/>
                <a:latin typeface="Arial"/>
              </a:rPr>
              <a:t>Распространит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я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отик замяук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олнышко выгляну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ришла з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012000" y="46530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одчеркните грамматические основы, укажите, чем выражены главные чл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кая ночь! Я не мо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спится мне. Такая лу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Еще как будто бере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 душе утраченную ю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(С. Есени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 предложения  можно  назвать   односостав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ен ли в этих предложениях второй главный чл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, правила,  31-34- повторить прав.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.сл.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.153, стр.6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чернови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 работе использовать распространенные и нераспространенные предлож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743200" cy="18414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3564000" y="404640"/>
            <a:ext cx="4105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ее задан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02:00Z</dcterms:created>
  <dc:creator>USER</dc:creator>
  <dc:description/>
  <dc:language>en-US</dc:language>
  <cp:lastModifiedBy>BLACKGIRL</cp:lastModifiedBy>
  <dcterms:modified xsi:type="dcterms:W3CDTF">2010-01-29T23:05:13Z</dcterms:modified>
  <cp:revision>6</cp:revision>
  <dc:subject/>
  <dc:title> </dc:title>
</cp:coreProperties>
</file>